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A4E8-00B9-4B75-A4C7-0ADC1E0CF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D9F9-FD15-496F-A998-4A310CDDF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A911-6271-495A-829D-304FCE716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00A0-BCA9-4950-923C-E4AD257A6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9B75-0632-469B-9198-0EFD76EBD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CF39-3BC7-423D-8A55-389BFE7BD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33EB-FA43-4AD7-AC63-D4B9AB99C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15E0-8FB1-4403-B30F-D57CB7F0D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B3A3-9AE2-4457-895E-70C9D5C6C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5B6D-014E-4EA7-A3A4-3112112C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89C6-7DC2-40DC-9D2E-6F774A7B5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8438-4BE5-41EF-B8BC-E22BA9406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1F073-19A0-4903-A541-7846AC6472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 Comid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Erica Grasber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a el desayuno me gusta comer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28240" y="3429000"/>
            <a:ext cx="2438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panque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28600" y="4038480"/>
            <a:ext cx="2362320" cy="15922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324480" y="4724280"/>
            <a:ext cx="2667240" cy="20005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172200" y="3886200"/>
            <a:ext cx="2743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72200" y="3809880"/>
            <a:ext cx="2666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24480" y="40384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toci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7848720" y="1752480"/>
            <a:ext cx="2057400" cy="1932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391520" y="1066680"/>
            <a:ext cx="175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go de nar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3352680" y="2590920"/>
            <a:ext cx="2610000" cy="19573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276720" y="1600200"/>
            <a:ext cx="281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 huevos y pan tost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a el almuerzo me gusta comer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00200" y="4647960"/>
            <a:ext cx="22096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a hamburgue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781680" y="4724280"/>
            <a:ext cx="205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pas fri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58000" y="1600200"/>
            <a:ext cx="198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 naranj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191120" y="16765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gall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24280" y="457200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a ensal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371600" y="13716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 le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 la cena me gusta come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320" y="3885840"/>
            <a:ext cx="3429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400800" y="4800600"/>
            <a:ext cx="2362320" cy="16095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629400" y="2606760"/>
            <a:ext cx="2205000" cy="1763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1600200" y="175248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12:08:55Z</dcterms:created>
  <dc:creator>grasbergereri</dc:creator>
  <dc:description/>
  <dc:language>en-US</dc:language>
  <cp:lastModifiedBy>grasbergereri</cp:lastModifiedBy>
  <dcterms:modified xsi:type="dcterms:W3CDTF">2012-04-04T18:09:15Z</dcterms:modified>
  <cp:revision>3</cp:revision>
  <dc:subject/>
  <dc:title>Slide 1</dc:title>
</cp:coreProperties>
</file>